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4A5-9B39-4B02-8B14-B317FCE4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8C9-0445-4329-BBEA-7538C164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2D5-79E6-40A3-B25B-3610D070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B96-0B1C-4866-BD8A-817825A4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0E19-A9AA-47EA-B7FD-AB167706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D8FF-240B-4FCA-A271-98A537A1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CFA0-0A59-4F23-A492-2EF5046B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B8F2-40C2-43C8-A92B-B667BD34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849B-A37C-4AE7-9E3D-3EC57309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0D45-D269-4BB4-98F6-24E9AA87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B48A-A66D-4AC2-9C3C-A9181B2E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0D9-9ECE-4632-861F-8D821E9D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6461-2DC7-4DC9-BB6C-E2BF75F8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CE72-5413-4593-AF03-5667EF37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1229-7E7C-44BB-99DF-E7557126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17CB-8266-436E-9CA8-20DB0383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2D0E-D9B4-486A-B808-B6985107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E11-1073-458B-A00E-322DF5B1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5E6-EE5F-409A-9C2C-C132A522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088-9F0D-40E2-99F2-5F93542C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6EC-6D2A-41D9-83A5-83FA1D8C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2D7-5CF5-4919-82FE-6201BB3F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15F-FEEB-40B2-BC1F-66EB5C3A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CDB-6715-4D29-9EB9-1772502A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6948-FF4D-4115-AEAE-5F44BF957526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BB03-6C61-4D67-A7ED-CE48332DF981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imes New Roman"/>
              </a:rPr>
              <a:t>PSICHIKOS SAMPRATA: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, SĄMONĖ, PASĄMO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NARKOTIKAI IR SĄMONĖ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aktyvios medžiagos (pagal poveikį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ką stimuliuojanč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ką slopinanč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haliucinoge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RIKLAUSOMYBĖ (I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NĖ PRIKLAUSOMYBĖ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liguistas potraukis vartoti narkotines medžiagas komforto būklei pasiek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FIZINĖ PRIKLAUSOMYBĖ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viso organizmo funkcinės veiklos pakitimas, pasireiškiantis ryškiais psichiniais ir fiziniais sutrikimais, staiga nustojus vartoti narkotik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IKLAUSOMYBĖS VYSTYMOSI FAZ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minuoja euforizuojantis poveikis, negatyvūs padariniai neįvertinam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arkotikų veikiamas asmuo jaučia laisvę nuo baimės ir padidėjusį savigarbos jausm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eigiamas narkotikų poveikis iš lėto mažėja, norint pasiekti tą patį poveikį reikia didinti dozę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oblemos neigiamos. Atminties, dėmesio sutrikim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iklausomybės fazėje atsiranda smarkus dozės didinimas, kontrolės praradimas, santykių nutraukimas ir profesinio lygio smukima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Chroniškoje nykimo stadijoje aiškiai suprastėja narkotikų įsisavinimas. To pagrindas – prasidedantis organų pažeid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ik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Žmogaus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— tai daugybės tikrovės atspindėjimo ir žmogaus elgsenos reguliavimo reiškinių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uma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: sąmonė ir pasąmon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monė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ąmonė apibrėžiama kaip nuolatinis minčių, jausmų ir suvokimų srautas, kurį protarpiais įsisąmoniname (atrankinis dėmesy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ąmonės būsenos: budri ir pakitusios sąmonės būse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kitusios sąmonės būsen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kelti sąmonės pokyč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ditaci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ipnoz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rkotikų sukeltos būse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iego kategorijos: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M (Rapid eye mov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ilus mie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MONĖS BŪSENOS (I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as ir sapnai. Miego faz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Atsipalaidavimo būsenoje, tačiau dar būdraujant, smegenų elektrinės bangos vadinamos alfa bangomi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ukrenta širdies dažnis, temperatūra, spaudimas. Bangose išryškėja </a:t>
            </a:r>
            <a:r>
              <a:rPr b="0" i="1" lang="lt-LT" sz="2300" spc="-1" strike="noStrike">
                <a:solidFill>
                  <a:srgbClr val="000000"/>
                </a:solidFill>
                <a:latin typeface="Arial"/>
              </a:rPr>
              <a:t>miego verpstės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Pereinamoji miego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Giliojo miego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REM (rapid eyes movements)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Miego stadijų kaita nakties metu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129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o sutriki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emi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rkolepsi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Miego apnė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ktinis siaub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kitusios sąmonės būsen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dit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ipno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rkotinių medžiagų sukelti pokyč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20:42:46Z</dcterms:created>
  <dc:creator>TADAS</dc:creator>
  <dc:description/>
  <dc:language>en-US</dc:language>
  <cp:lastModifiedBy> </cp:lastModifiedBy>
  <dcterms:modified xsi:type="dcterms:W3CDTF">2007-08-30T15:15:34Z</dcterms:modified>
  <cp:revision>12</cp:revision>
  <dc:subject/>
  <dc:title>Slide 1</dc:title>
</cp:coreProperties>
</file>